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27D-1160-4876-8A25-D5D71D48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424-C0F0-4EC4-A522-37A77AD0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378-531D-483C-A286-7A0E92B9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26F-382E-42B1-9492-F77D6707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EF1-373D-4F2C-84C5-598FB55D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944-32BE-4D3B-8EA6-A95E56E2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8EE-832F-4802-8254-D1FEEB6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300-7FDD-41FC-89A1-3D21B75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BB9-56B4-47BC-AFD1-BDFA324D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032-A77B-445C-9B23-2CDB66EE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54B-5DF1-4BBC-A0D4-30EAF63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E73-780C-43A6-8709-8CBF478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9AA3-8147-459E-AA84-75A6B5B2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ut what if I don’t want twelve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22035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ten in life, we see things for sale in quantities that are not practical for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2900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  At a local store, corn on the cob is $4.99 per dozen.  We live alone and know that we do not want or need 12 cobs of corn.  We only want three.  How much will three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6672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9920" y="1828800"/>
            <a:ext cx="680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rst step is set up a ratio.  For $4.99, we get 12 cobs of c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ocal store, corn on the cob is $4.99 per dozen.  We live alone and know that we do not want or need 12 cobs of corn.  We only want three.  How much will thre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4800" y="26668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4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0440" y="2627280"/>
            <a:ext cx="591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note of what each term represents over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 –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 - C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04920" y="239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760" y="2398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9720" y="3693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19320" y="3429000"/>
                <a:ext cx="753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1280" y="3429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5440" y="399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6840" y="4303800"/>
            <a:ext cx="534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n equivalent fraction, with only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3 cobs of c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member, it’s VERY important that you put it where the corn is in the first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resent the new cost of the c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5400" y="4800600"/>
                <a:ext cx="1050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0" y="4724280"/>
                <a:ext cx="3729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4960" y="4876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532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480" y="582768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oss Multiply as 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943600"/>
            <a:ext cx="54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we are dealing with money, you must round off to the nearest hundre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248520"/>
                <a:ext cx="1447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059920" y="6172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934320" y="2895480"/>
            <a:ext cx="15588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example, find out the cost of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cobs of 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cob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617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o into a hardware store to buy some bolts you need to fix your door.  The price is $14.95 for 50.  You only require 15.  How much will they cost? (Remember this is money, so you have to round off to the nearest hundredth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1605000">
            <a:off x="7086240" y="4250880"/>
            <a:ext cx="12780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$75  and want to buy as many bolts as you can.  Remember they are $14.95 for 50.  How many bolts can you buy with the money you have?  (Remember that you cannot buy part of a bolt so round off to the nearest whole number that you can affo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1605000">
            <a:off x="7391160" y="4495680"/>
            <a:ext cx="115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costs $1.09 per (for one) litre.  How much gas can you buy if you have $30.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66688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3:49:14Z</dcterms:created>
  <dc:creator>admin</dc:creator>
  <dc:description/>
  <dc:language>en-US</dc:language>
  <cp:lastModifiedBy>admin</cp:lastModifiedBy>
  <dcterms:modified xsi:type="dcterms:W3CDTF">2007-11-26T10:49:17Z</dcterms:modified>
  <cp:revision>7</cp:revision>
  <dc:subject/>
  <dc:title>How Much?</dc:title>
</cp:coreProperties>
</file>